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FBA82-38F1-4532-AE08-51AF4FAB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66C1-8B11-47FE-BDF3-42E8A85B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3C53-0FDD-4EBE-A8DF-EEC7C5F46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5A61-DCBE-4228-B4A9-0BADB05DC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3F804-D927-403F-B047-43220D50B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F1E0-87CA-4E23-960D-5FAAE2757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6631D-B22E-4DA5-BE29-FD69F2C9A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98E32-8C12-4098-850B-BCDEA67BA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17B6E-597F-445D-BDC5-83F860808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689E6-E0B5-4825-9525-F35F05C6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2DD4-56F4-43B1-A592-E46DFE31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45D3-62A5-448D-8F90-15176F052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C9EC3-8545-4E85-8C5C-6A0A8A6C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51E7-44F4-4291-BA50-AD490561E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D9E84-7F20-430E-B4F6-FD244DA2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2D786-3D21-4B74-9157-BBCE1CF81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D09BF-C329-4B41-902A-76F98D2F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94071-61BD-4441-B207-DDD6FFC5B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DE638-CA60-4C97-892D-0AC612FF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58AA54-1A65-4926-B525-FD145FCF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B664CC-03E4-40A8-B222-41BD788FA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8528D2-8A9E-4489-AD46-E01D03466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B5241-44E6-47DD-8EBD-88785C123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31EA6-B703-4AFA-B32B-278C3605D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EE12A0-29C5-4401-BC32-5386CCCF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2C2C9-DC81-4248-BAAF-8CAFDB3E5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BD1F5-299C-4FD4-B8D1-0A5C01A0B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9DA69-9900-4D57-A023-E4A8AD03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2660D-AEF3-49D6-B50E-9BAD0C584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8985E-9CE6-447D-A090-AA02EB626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E3C53-3B68-4703-ACBF-305A2102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5206B2-5249-4AAA-B009-A9A092F74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49CFE-4E33-4BF4-8BD6-3E1BA4FC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BB51-7B2E-4ADA-9DC2-8CB75829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28435-6303-4109-AADB-F47829CC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B8F7E8-9264-44DB-B759-C71F8957E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09ACE-4F40-46C7-80D6-355B8E6A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8D9963-D523-4E61-9E57-4B644033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8FB76-DA76-49C8-B35B-17507750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FC3B4A-42AA-4DA2-8EDB-C49E8B49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D1AD03-131E-4F50-9576-E118BE1A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9EE95-61C3-4139-80F8-B0F591F5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AA729C-5E1C-46D4-AD7E-8CB7C09A2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4E3AEB-D948-4D15-8FA3-DA619653B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0793A-3C1B-4269-BAC6-893535BFD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5AEFE-7E50-4E90-BC9F-C5FF9ABEB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C0813C-D118-4077-8D6F-F7206A21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DA071B-B88D-4FE7-B590-AEB8B69CF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3D6D9-1043-41B0-9555-9296CAFCC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EA384C-F5B7-4554-9E41-1D25BCE0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96714-8CFE-437F-AECE-753DEE56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458139-B8EB-4272-B7E9-B85F137F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80F13-C357-4133-9C03-545600A1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23634B-CCCE-4DE9-B201-7A04194F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C78DF-AEE3-49D6-9ACC-23AB7E85F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E4AA-7BA3-42AA-8C4D-18DFB35BB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9DCA7-1ED3-4DBC-939D-6572E74D8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E5424-E51D-4BAE-B311-1646123C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6DAF-20B8-4A04-957D-F3157F44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3AC0-829A-48F8-A37F-25574D3C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9c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e6842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A75E-5CDB-4DDB-B81C-78621629419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c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e6842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305B-2A05-432E-8119-66B4F3A5785F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9c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e6842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5298-1D8C-4C13-99F1-FCB39369DA87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c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e6842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2f5897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2f589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886BB-F6C7-4007-B807-288301267AAC}" type="slidenum">
              <a:rPr b="0" lang="en-US" sz="1600" spc="-1" strike="noStrike">
                <a:solidFill>
                  <a:srgbClr val="2f589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9c52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e68422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9c5252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1CD99-B106-4A91-A941-238BCC1DCA0D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iFUAWMMdE7c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LOS APUNTES: IRREGULAR PRETERITE VERBS 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Franklin Gothic Book"/>
                <a:ea typeface="Tunga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 YEARS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1.2(ORANGE BOOKS) 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WHAT IRREGULAR PRETERIT VERBS DO YOU ALREADY KNOW?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5252"/>
                </a:solidFill>
                <a:latin typeface="Franklin Gothic Book"/>
              </a:rPr>
              <a:t>IR - </a:t>
            </a:r>
            <a:r>
              <a:rPr b="1" lang="en-US" sz="4000" spc="-1" strike="noStrike">
                <a:solidFill>
                  <a:srgbClr val="e68422"/>
                </a:solidFill>
                <a:latin typeface="Franklin Gothic Book"/>
              </a:rPr>
              <a:t>To go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5252"/>
                </a:solidFill>
                <a:latin typeface="Franklin Gothic Book"/>
              </a:rPr>
              <a:t>SER</a:t>
            </a:r>
            <a:r>
              <a:rPr b="1" lang="en-US" sz="40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4000" spc="-1" strike="noStrike">
                <a:solidFill>
                  <a:srgbClr val="9c5252"/>
                </a:solidFill>
                <a:latin typeface="Franklin Gothic Book"/>
              </a:rPr>
              <a:t> - </a:t>
            </a:r>
            <a:r>
              <a:rPr b="1" lang="en-US" sz="4000" spc="-1" strike="noStrike">
                <a:solidFill>
                  <a:srgbClr val="e68422"/>
                </a:solidFill>
                <a:latin typeface="Franklin Gothic Book"/>
              </a:rPr>
              <a:t>To be 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5252"/>
                </a:solidFill>
                <a:latin typeface="Franklin Gothic Book"/>
              </a:rPr>
              <a:t>DAR  - </a:t>
            </a:r>
            <a:r>
              <a:rPr b="1" lang="en-US" sz="4000" spc="-1" strike="noStrike">
                <a:solidFill>
                  <a:srgbClr val="e68422"/>
                </a:solidFill>
                <a:latin typeface="Franklin Gothic Book"/>
              </a:rPr>
              <a:t>To give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5252"/>
                </a:solidFill>
                <a:latin typeface="Franklin Gothic Book"/>
              </a:rPr>
              <a:t>VER – </a:t>
            </a:r>
            <a:r>
              <a:rPr b="1" lang="en-US" sz="4000" spc="-1" strike="noStrike">
                <a:solidFill>
                  <a:srgbClr val="e68422"/>
                </a:solidFill>
                <a:latin typeface="Franklin Gothic Book"/>
              </a:rPr>
              <a:t>To see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c5252"/>
                </a:solidFill>
                <a:latin typeface="Franklin Gothic Book"/>
              </a:rPr>
              <a:t>HACER – </a:t>
            </a:r>
            <a:r>
              <a:rPr b="1" lang="en-US" sz="4000" spc="-1" strike="noStrike">
                <a:solidFill>
                  <a:srgbClr val="e68422"/>
                </a:solidFill>
                <a:latin typeface="Franklin Gothic Book"/>
              </a:rPr>
              <a:t>To make/do</a:t>
            </a:r>
            <a:endParaRPr b="1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7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41280" y="15228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ORE IRREGULAR PRETERITE VERB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685440" y="609120"/>
            <a:ext cx="7521480" cy="15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The following verbs have irregular </a:t>
            </a:r>
            <a:r>
              <a:rPr b="1" lang="en-US" sz="2400" spc="-1" strike="noStrike">
                <a:solidFill>
                  <a:srgbClr val="e68422"/>
                </a:solidFill>
                <a:latin typeface="Franklin Gothic Book"/>
              </a:rPr>
              <a:t>STEMS, 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but they have the same </a:t>
            </a:r>
            <a:r>
              <a:rPr b="1" lang="en-US" sz="2400" spc="-1" strike="noStrike">
                <a:solidFill>
                  <a:srgbClr val="2f5897"/>
                </a:solidFill>
                <a:latin typeface="Franklin Gothic Book"/>
              </a:rPr>
              <a:t>endings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. 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Content Placeholder 2"/>
          <p:cNvSpPr/>
          <p:nvPr/>
        </p:nvSpPr>
        <p:spPr>
          <a:xfrm>
            <a:off x="762120" y="1523880"/>
            <a:ext cx="2743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c5252"/>
                </a:solidFill>
                <a:latin typeface="Franklin Gothic Book"/>
              </a:rPr>
              <a:t>VERB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Andar</a:t>
            </a:r>
            <a:r>
              <a:rPr b="0" lang="en-US" sz="2000" spc="-1" strike="noStrike">
                <a:solidFill>
                  <a:srgbClr val="9c5252"/>
                </a:solidFill>
                <a:latin typeface="Franklin Gothic Book"/>
              </a:rPr>
              <a:t> – To walk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Estar </a:t>
            </a:r>
            <a:r>
              <a:rPr b="0" lang="en-US" sz="2000" spc="-1" strike="noStrike">
                <a:solidFill>
                  <a:srgbClr val="9c5252"/>
                </a:solidFill>
                <a:latin typeface="Franklin Gothic Book"/>
              </a:rPr>
              <a:t>– To b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Poder </a:t>
            </a:r>
            <a:r>
              <a:rPr b="0" lang="en-US" sz="2000" spc="-1" strike="noStrike">
                <a:solidFill>
                  <a:srgbClr val="9c5252"/>
                </a:solidFill>
                <a:latin typeface="Franklin Gothic Book"/>
              </a:rPr>
              <a:t>– To be abl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Poner</a:t>
            </a:r>
            <a:r>
              <a:rPr b="0" lang="en-US" sz="2000" spc="-1" strike="noStrike">
                <a:solidFill>
                  <a:srgbClr val="9c5252"/>
                </a:solidFill>
                <a:latin typeface="Franklin Gothic Book"/>
              </a:rPr>
              <a:t> – To put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Querer </a:t>
            </a:r>
            <a:r>
              <a:rPr b="0" lang="en-US" sz="2000" spc="-1" strike="noStrike">
                <a:solidFill>
                  <a:srgbClr val="9c5252"/>
                </a:solidFill>
                <a:latin typeface="Franklin Gothic Book"/>
              </a:rPr>
              <a:t>– To want,  lov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Saber</a:t>
            </a:r>
            <a:r>
              <a:rPr b="0" lang="en-US" sz="2000" spc="-1" strike="noStrike">
                <a:solidFill>
                  <a:srgbClr val="9c5252"/>
                </a:solidFill>
                <a:latin typeface="Franklin Gothic Book"/>
              </a:rPr>
              <a:t> – To know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Tener</a:t>
            </a:r>
            <a:r>
              <a:rPr b="0" lang="en-US" sz="2000" spc="-1" strike="noStrike">
                <a:solidFill>
                  <a:srgbClr val="9c5252"/>
                </a:solidFill>
                <a:latin typeface="Franklin Gothic Book"/>
              </a:rPr>
              <a:t> – To hav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Venir </a:t>
            </a:r>
            <a:r>
              <a:rPr b="0" lang="en-US" sz="2000" spc="-1" strike="noStrike">
                <a:solidFill>
                  <a:srgbClr val="9c5252"/>
                </a:solidFill>
                <a:latin typeface="Franklin Gothic Book"/>
              </a:rPr>
              <a:t>– To come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Content Placeholder 2"/>
          <p:cNvSpPr/>
          <p:nvPr/>
        </p:nvSpPr>
        <p:spPr>
          <a:xfrm>
            <a:off x="3429000" y="1523880"/>
            <a:ext cx="27432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68422"/>
                </a:solidFill>
                <a:latin typeface="Franklin Gothic Book"/>
              </a:rPr>
              <a:t>STEM</a:t>
            </a:r>
            <a:endParaRPr b="0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8422"/>
                </a:solidFill>
                <a:latin typeface="Franklin Gothic Book"/>
              </a:rPr>
              <a:t>Anduv-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8422"/>
                </a:solidFill>
                <a:latin typeface="Franklin Gothic Book"/>
              </a:rPr>
              <a:t>Estuv-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8422"/>
                </a:solidFill>
                <a:latin typeface="Franklin Gothic Book"/>
              </a:rPr>
              <a:t>Pud-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8422"/>
                </a:solidFill>
                <a:latin typeface="Franklin Gothic Book"/>
              </a:rPr>
              <a:t>Pus-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8422"/>
                </a:solidFill>
                <a:latin typeface="Franklin Gothic Book"/>
              </a:rPr>
              <a:t>Quis-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8422"/>
                </a:solidFill>
                <a:latin typeface="Franklin Gothic Book"/>
              </a:rPr>
              <a:t>Sup-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8422"/>
                </a:solidFill>
                <a:latin typeface="Franklin Gothic Book"/>
              </a:rPr>
              <a:t>Tuv-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68422"/>
                </a:solidFill>
                <a:latin typeface="Franklin Gothic Book"/>
              </a:rPr>
              <a:t>Vin-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0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5334120" y="2438280"/>
          <a:ext cx="3276360" cy="2386080"/>
        </p:xfrm>
        <a:graphic>
          <a:graphicData uri="http://schemas.openxmlformats.org/drawingml/2006/table">
            <a:tbl>
              <a:tblPr/>
              <a:tblGrid>
                <a:gridCol w="1638360"/>
                <a:gridCol w="1638000"/>
              </a:tblGrid>
              <a:tr h="8384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IMO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076b4"/>
                    </a:solidFill>
                  </a:tcPr>
                </a:tc>
              </a:tr>
              <a:tr h="761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ST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STEIS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6e5"/>
                    </a:solidFill>
                  </a:tcPr>
                </a:tc>
              </a:tr>
              <a:tr h="7858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O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IERO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ecf2"/>
                    </a:solidFill>
                  </a:tcPr>
                </a:tc>
              </a:tr>
            </a:tbl>
          </a:graphicData>
        </a:graphic>
      </p:graphicFrame>
      <p:sp>
        <p:nvSpPr>
          <p:cNvPr id="224" name="Content Placeholder 2"/>
          <p:cNvSpPr/>
          <p:nvPr/>
        </p:nvSpPr>
        <p:spPr>
          <a:xfrm>
            <a:off x="5562720" y="1447920"/>
            <a:ext cx="3200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5897"/>
                </a:solidFill>
                <a:latin typeface="Franklin Gothic Book"/>
              </a:rPr>
              <a:t>IRREGULAR PRETERITE ENDING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5897"/>
                </a:solidFill>
                <a:latin typeface="Franklin Gothic Book"/>
              </a:rPr>
              <a:t>	</a:t>
            </a:r>
            <a:r>
              <a:rPr b="0" lang="en-US" sz="2400" spc="-1" strike="noStrike">
                <a:solidFill>
                  <a:srgbClr val="2f5897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LA PRÁCTICA - TRANSLAT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26" name="Content Placeholder 2" descr=""/>
          <p:cNvPicPr/>
          <p:nvPr/>
        </p:nvPicPr>
        <p:blipFill>
          <a:blip r:embed="rId1"/>
          <a:stretch/>
        </p:blipFill>
        <p:spPr>
          <a:xfrm>
            <a:off x="743040" y="1060560"/>
            <a:ext cx="760248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IRREGULAR PRETERIT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VERB-STEMS ENDINGS  WITH A “</a:t>
            </a:r>
            <a:r>
              <a:rPr b="0" lang="en-US" sz="2800" spc="-1" strike="noStrike">
                <a:solidFill>
                  <a:srgbClr val="e68422"/>
                </a:solidFill>
                <a:latin typeface="Franklin Gothic Medium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6840" y="9907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2f5897"/>
                </a:solidFill>
                <a:latin typeface="Franklin Gothic Book"/>
              </a:rPr>
              <a:t>If the irregular verb stem ends in a “</a:t>
            </a:r>
            <a:r>
              <a:rPr b="1" lang="en-US" sz="2600" spc="-1" strike="noStrike">
                <a:solidFill>
                  <a:srgbClr val="e68422"/>
                </a:solidFill>
                <a:latin typeface="Franklin Gothic Book"/>
              </a:rPr>
              <a:t>J</a:t>
            </a:r>
            <a:r>
              <a:rPr b="1" lang="en-US" sz="2600" spc="-1" strike="noStrike">
                <a:solidFill>
                  <a:srgbClr val="2f5897"/>
                </a:solidFill>
                <a:latin typeface="Franklin Gothic Book"/>
              </a:rPr>
              <a:t>”, then the </a:t>
            </a:r>
            <a:r>
              <a:rPr b="1" lang="en-US" sz="2600" spc="-1" strike="noStrike">
                <a:solidFill>
                  <a:srgbClr val="000000"/>
                </a:solidFill>
                <a:latin typeface="Franklin Gothic Book"/>
              </a:rPr>
              <a:t>ellos, ellas, ustedes </a:t>
            </a:r>
            <a:r>
              <a:rPr b="1" lang="en-US" sz="2600" spc="-1" strike="noStrike">
                <a:solidFill>
                  <a:srgbClr val="2f5897"/>
                </a:solidFill>
                <a:latin typeface="Franklin Gothic Book"/>
              </a:rPr>
              <a:t>form drops the </a:t>
            </a:r>
            <a:r>
              <a:rPr b="1" lang="en-US" sz="2600" spc="-1" strike="noStrike">
                <a:solidFill>
                  <a:srgbClr val="000000"/>
                </a:solidFill>
                <a:latin typeface="Franklin Gothic Book"/>
              </a:rPr>
              <a:t>“i”</a:t>
            </a:r>
            <a:br>
              <a:rPr sz="2600"/>
            </a:br>
            <a:endParaRPr b="1" lang="en-US" sz="2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c5252"/>
                </a:solidFill>
                <a:latin typeface="Franklin Gothic Book"/>
              </a:rPr>
              <a:t>VERBS</a:t>
            </a:r>
            <a:r>
              <a:rPr b="1" lang="en-US" sz="36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3600" spc="-1" strike="noStrike">
                <a:solidFill>
                  <a:srgbClr val="e68422"/>
                </a:solidFill>
                <a:latin typeface="Franklin Gothic Book"/>
              </a:rPr>
              <a:t>STEMS</a:t>
            </a:r>
            <a:r>
              <a:rPr b="1" lang="en-US" sz="3600" spc="-1" strike="noStrike">
                <a:solidFill>
                  <a:srgbClr val="e68422"/>
                </a:solidFill>
                <a:latin typeface="Franklin Gothic Book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Decir- To say/tell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e68422"/>
                </a:solidFill>
                <a:latin typeface="Franklin Gothic Book"/>
              </a:rPr>
              <a:t>Di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Dijero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Traer- To bring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e68422"/>
                </a:solidFill>
                <a:latin typeface="Franklin Gothic Book"/>
              </a:rPr>
              <a:t>Tra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rajero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Conducir-To drive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e68422"/>
                </a:solidFill>
                <a:latin typeface="Franklin Gothic Book"/>
              </a:rPr>
              <a:t>Condu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Condujero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Producir- To produce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e68422"/>
                </a:solidFill>
                <a:latin typeface="Franklin Gothic Book"/>
              </a:rPr>
              <a:t>Produ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j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Produjero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Traducir- To translate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9c525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e68422"/>
                </a:solidFill>
                <a:latin typeface="Franklin Gothic Book"/>
              </a:rPr>
              <a:t>Tradu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j</a:t>
            </a:r>
            <a:r>
              <a:rPr b="1" lang="en-US" sz="2400" spc="-1" strike="noStrike">
                <a:solidFill>
                  <a:srgbClr val="e6842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e6842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e68422"/>
                </a:solidFill>
                <a:latin typeface="Franklin Gothic Book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Tradujeron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6553080" y="19890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5897"/>
                </a:solidFill>
                <a:latin typeface="Franklin Gothic Book"/>
              </a:rPr>
              <a:t>Ellos/Ella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5897"/>
                </a:solidFill>
                <a:latin typeface="Franklin Gothic Book"/>
              </a:rPr>
              <a:t>Ustedes Form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ÁS PRÁCTICA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2240" y="1100160"/>
            <a:ext cx="752184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1. They brought a notebook to Spanish class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68422"/>
                </a:solidFill>
                <a:latin typeface="Franklin Gothic Book"/>
              </a:rPr>
              <a:t>Ellos trajeron un cuaderno a la clase de espanol.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2. We translated a poem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c5252"/>
                </a:solidFill>
                <a:latin typeface="Franklin Gothic Book"/>
              </a:rPr>
              <a:t>Nosotros tradujimos un poema.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3. You all (formal) drove the car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68422"/>
                </a:solidFill>
                <a:latin typeface="Franklin Gothic Book"/>
              </a:rPr>
              <a:t>Ustedes condujeron el coche/ el carro.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4. He produced a movie.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c5252"/>
                </a:solidFill>
                <a:latin typeface="Franklin Gothic Book"/>
              </a:rPr>
              <a:t>él produjo una pelicula.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Franklin Gothic Book"/>
              </a:rPr>
              <a:t>5. They told me (To me they told) the truth.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e68422"/>
                </a:solidFill>
                <a:latin typeface="Franklin Gothic Book"/>
              </a:rPr>
              <a:t>Ellos me dijeron la verdad. </a:t>
            </a:r>
            <a:endParaRPr b="1" lang="en-US" sz="2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2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2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IRREGULAR PRETERITE </a:t>
            </a:r>
            <a:r>
              <a:rPr b="0" lang="en-US" sz="2800" spc="-1" strike="noStrike" u="sng">
                <a:solidFill>
                  <a:srgbClr val="3399ff"/>
                </a:solidFill>
                <a:uFillTx/>
                <a:latin typeface="Franklin Gothic Medium"/>
                <a:hlinkClick r:id="rId1"/>
              </a:rPr>
              <a:t>SONG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: TO THE TUNE OF “</a:t>
            </a:r>
            <a:r>
              <a:rPr b="0" lang="en-US" sz="2800" spc="-1" strike="noStrike">
                <a:solidFill>
                  <a:srgbClr val="9c5252"/>
                </a:solidFill>
                <a:latin typeface="Franklin Gothic Medium"/>
              </a:rPr>
              <a:t>LA CUCARACHA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233" name="Content Placeholder 2" descr=""/>
          <p:cNvPicPr/>
          <p:nvPr/>
        </p:nvPicPr>
        <p:blipFill>
          <a:blip r:embed="rId2"/>
          <a:stretch/>
        </p:blipFill>
        <p:spPr>
          <a:xfrm>
            <a:off x="517680" y="1255680"/>
            <a:ext cx="901044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7T23:49:58Z</dcterms:created>
  <dc:creator>Heffernen, Heather</dc:creator>
  <dc:description/>
  <dc:language>en-US</dc:language>
  <cp:lastModifiedBy>Prine, Stephanie</cp:lastModifiedBy>
  <dcterms:modified xsi:type="dcterms:W3CDTF">2013-03-15T12:09:24Z</dcterms:modified>
  <cp:revision>20</cp:revision>
  <dc:subject/>
  <dc:title>Los Apuntes: Irregular Preterite Verbs</dc:title>
</cp:coreProperties>
</file>